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1BE-413A-4E84-85F3-814F7B21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95B-6291-46FC-B8C7-D6B5D3E2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547-6F78-463B-83BF-5A64C003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215-83BA-4638-92CE-39291B76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23B9-A5BB-4C29-96DC-352CCA34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CCBD-1FB4-406B-9108-BCF8E978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E698-2AE2-420F-B45C-3CF26F7D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B0A2-B507-4A2A-B2C5-BBBA5953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D755-EB55-4411-9711-E76D010A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AA38-FAE0-444D-B23C-C1115EE7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7A55-D07A-4E44-935C-E1550EC6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244-8DF4-42FC-8E8A-A85B97E1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025F-6747-4A38-9A73-EAC4EDC7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2FB2-3444-46AC-B486-A2B45036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C93B-B096-483B-A737-B02F4B8D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DF58-AC97-4EC4-9F7B-08CA018C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8DFB-18BB-4DAD-B7EB-8691864E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FD76-D247-4536-A419-B02AC0A6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7CE2-DB0A-421D-BA9E-A360E1BD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605F3-C912-4C5F-8095-CC7DACE1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34170-3378-4262-B0E8-10B353F2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60FC-48E6-45E9-AE28-F823C995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AE8-1CD5-451B-92CB-0F5EC653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E6A5-1D3F-405D-B138-922488CA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A587-4B5E-4577-BF05-45B2E724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E64E6-CFFF-40B0-9293-2D86A9CC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C2D8-EAE7-43D7-BCF5-AAE8F6B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14D25-46FB-4B7E-BC16-0569512B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F506-7CA1-4976-99A4-88B88FC5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B6FD-2586-4E01-A114-EB54640A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83D19-30F3-4DF8-9D9E-71D8AE91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C375-B20F-4844-A549-91464A63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22713-309E-49BE-9917-FE71AB15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042-9001-4BA3-BAE9-CFAB84CB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C879-5EFC-4092-88D2-29BD0F52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ED56-5943-42FC-A5EB-730D36D2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8C547-96C1-4FA4-8BDE-049EC2C5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E0C30-6FDD-4A9A-8763-959FCBA4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C9B4-6E66-4D1C-B75C-4B730E07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0A4D-100C-4128-B61B-385090EF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2CA4-5411-4E8C-A9CE-AC209269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72BDF-5874-4AEB-8F91-C8A95B3B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9DBB-FED1-4792-A1D2-9A2B210E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5B9-0054-4CD8-AB01-503C72C2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8D7-270A-4971-BC11-7067804D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153-353F-4757-A52B-D8A0DB36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247-97EB-4493-AB4C-B442FF0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FD7-2447-4AC9-966E-4ED73B27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B426-8E9E-49D6-B284-02E4DD045F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019F-CFDE-46BC-8D26-62174DBC75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E341-42E1-48A4-8039-5DACFEBED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48F2-48D1-4503-A2EB-3C692E229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" TargetMode="External"/><Relationship Id="rId3" Type="http://schemas.openxmlformats.org/officeDocument/2006/relationships/hyperlink" Target="http://video.google.ca/" TargetMode="External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unitedstreaming.com/" TargetMode="External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25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oth allow import of raw video foo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t, paste and move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sert music and nar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sert titles and still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ilt-in spe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ort to .wmv or .mov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eate 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Editing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primary formats for student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media fil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C – Movie Maker - .w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pple – iMovie - 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forma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ous players for student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media play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lPlay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01318"/>
                </a:solidFill>
                <a:latin typeface="Arial"/>
              </a:rPr>
              <a:t>Computers should have all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01318"/>
                </a:solidFill>
                <a:latin typeface="Arial"/>
              </a:rPr>
              <a:t>players – FREE download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play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057400" y="11430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re are four websites that can help you with more tricks and tips to create great videos – in and out of y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ort Course in Digital Vide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rs Guide to making Student Vide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Make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 iMov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aking GREAT Vide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971800" y="7621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On-line video storage and sharing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You Tube</a:t>
            </a:r>
            <a:br>
              <a:rPr sz="32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Google Video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rowth of video storage sites has grown in past few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 digital video cameras, easy-editing software on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without issues, but can be used for educational purposes with proper supervision an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7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ws easily accessible uploading, storage and sharing of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e / share your own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archable tags - Find other videos for your projec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7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le to embed videos from Google and You Tube into blogs, wikis and other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acher and stud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video.google.ca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Instructional Video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d to have VHS videos that we played on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cience, Social Studies most pop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ard to find, acquire,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Instructional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created videos (MovieMaker / iMovie), formats,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al video resources – Web based streaming video sources (media, educational vide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right – software, images,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Copyright – music downlo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05120" y="17521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e of a few new educational streaming video service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nual license,          school or district           fee based on              studen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tedstream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3057480" cy="2235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archable / downloa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REE trials available – but 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unitedstreaming.com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tedstream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4647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ther new educational streaming video service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nual license, school or district fee based on schoo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afari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477120" y="3048120"/>
            <a:ext cx="2133360" cy="102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-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archable / not-downlo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safarivideonetwork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afari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 REAL material has an owner – individual or col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01318"/>
                </a:solidFill>
                <a:latin typeface="Arial"/>
              </a:rPr>
              <a:t>House, car, computer, book, tre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about digital mate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Who owns pictures, music and video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What rights do they have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How does this affect us as educators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eator owns copyright       automatically – no need to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gital material treated same as physical mate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hotos, drawings, recordings, software, etc. are all owned by individual or organization that created them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Copyright symbol"/>
          <p:cNvPicPr/>
          <p:nvPr/>
        </p:nvPicPr>
        <p:blipFill>
          <a:blip r:embed="rId2"/>
          <a:stretch/>
        </p:blipFill>
        <p:spPr>
          <a:xfrm>
            <a:off x="6781680" y="152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4191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 have an obligation to model good citizenship and educate our students on digital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712960" cy="434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ermission from owner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Copyright free 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Web search, NB DO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Creative commons licens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Flickr – advanced 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Take your own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other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Use purchased music or video, do not reproduce on Internet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ermission from owner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76720" y="6091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Videos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students using computers"/>
          <p:cNvPicPr/>
          <p:nvPr/>
        </p:nvPicPr>
        <p:blipFill>
          <a:blip r:embed="rId2"/>
          <a:stretch/>
        </p:blipFill>
        <p:spPr>
          <a:xfrm>
            <a:off x="2514600" y="2971800"/>
            <a:ext cx="4952880" cy="34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Use only original softwar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Trial and freeware OK within terms of us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Don’t use file-sharing services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Citation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en researching information, it is acceptable to quote or refer to ideas and data expressed as part of presentations or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ortant that credit be given to original creator / author in the form of a citation or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rmally at end of document o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to re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Present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Vide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Web Pag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to re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Original works or papers (books, articles, etc.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Photos or illustr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Dat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Web Pag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primary formats, both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APA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MLA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Reference to author, publisher, title, year of publication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Slight differences depending on what you are referenc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ols for Referenc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A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liu.edu/CWIS/CWP/library/workshop/citapa.ht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tation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ndmarks for School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landmark-project.com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you believe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ile-sharing music or vide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out paying for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legal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f not, why are so many of 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young people doing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5715000" cy="5357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432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a picture is worth a thousand wo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in the Classroom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6019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is a video wo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/ Technology Plans due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Presentations start Monday after March Break (March 10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ducation is really just about telling our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deo can be used at all ages and in all curricula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deo Field Trip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 Media Club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are with other classes &amp; school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create videos to share what they know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in the Classroom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nds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at way to build cross-curricular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teracy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board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ng / Dra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gital Story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torycenter.org/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y video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gital Video Camer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ill c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 with Digital Video Editing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XP – Movie Mak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cintosh - iMovi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at you need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886040" cy="1857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Editing Video – Movie Maker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6433920" cy="4638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Editing Video – iMovi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25T18:12:17Z</dcterms:modified>
  <cp:revision>33</cp:revision>
  <dc:subject/>
  <dc:title>Welcome to  ED3862</dc:title>
</cp:coreProperties>
</file>